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D39D-4FA9-469E-8E93-A0B0098F2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9DD0-B0F6-464C-9856-69E7F82A7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1F8-C3BC-4DEE-A3C9-ECC63B10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F08-73EE-468B-BC23-0C25CFB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3B7-2770-4DFD-BA4F-912B721D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0F5-A2D4-4D90-A9D3-2A0E5E0C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771-4556-40E3-B557-6AF39173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741-2504-462F-BD63-94C1C069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F2F-AB5F-4C80-A180-3F9E55D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200-ABE9-435B-8774-570DF138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F7E-AD01-46E2-959E-11D65E65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36C-D5D0-47A6-84A0-717E8E9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194-1325-46BE-85E7-8C79C53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D69-D2B0-47F9-842A-06A4BAF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6470-EB04-4A2B-A2BE-272F1927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1279440" y="-12600"/>
            <a:ext cx="7578720" cy="98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419720" y="1676520"/>
            <a:ext cx="44193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ian Dawson, Tamica Copeland, Rachael Fernandes, LaChanda Freeman, Kelly Czekan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KtC_Inspector_Gadget_Cartoon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3520" y="2438280"/>
            <a:ext cx="328752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42640" y="20570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way to get to know your way around your own wikispace is to click, investigate, try out different features offered in the program. 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itle 3" descr=""/>
          <p:cNvPicPr/>
          <p:nvPr/>
        </p:nvPicPr>
        <p:blipFill>
          <a:blip r:embed="rId1"/>
          <a:stretch/>
        </p:blipFill>
        <p:spPr>
          <a:xfrm>
            <a:off x="1352520" y="255600"/>
            <a:ext cx="735336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appy_kids_powerpoint_templat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743200" y="5334120"/>
            <a:ext cx="3429000" cy="1279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wiki_Cover.GIF"/>
          <p:cNvPicPr/>
          <p:nvPr/>
        </p:nvPicPr>
        <p:blipFill>
          <a:blip r:embed="rId1"/>
          <a:stretch/>
        </p:blipFill>
        <p:spPr>
          <a:xfrm>
            <a:off x="1974960" y="755640"/>
            <a:ext cx="527364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TDC_5.gif"/>
          <p:cNvPicPr/>
          <p:nvPr/>
        </p:nvPicPr>
        <p:blipFill>
          <a:blip r:embed="rId1"/>
          <a:stretch/>
        </p:blipFill>
        <p:spPr>
          <a:xfrm>
            <a:off x="1901880" y="755640"/>
            <a:ext cx="5516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1523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kispace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066680" y="2057400"/>
            <a:ext cx="75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7315200" cy="4429080"/>
          </a:xfrm>
          <a:prstGeom prst="rect">
            <a:avLst/>
          </a:prstGeom>
          <a:ln w="0">
            <a:noFill/>
          </a:ln>
        </p:spPr>
      </p:pic>
      <p:pic>
        <p:nvPicPr>
          <p:cNvPr id="55" name="Title 3" descr=""/>
          <p:cNvPicPr/>
          <p:nvPr/>
        </p:nvPicPr>
        <p:blipFill>
          <a:blip r:embed="rId3"/>
          <a:stretch/>
        </p:blipFill>
        <p:spPr>
          <a:xfrm>
            <a:off x="2498760" y="-12600"/>
            <a:ext cx="48355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on “Wikis for Individuals and Grou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reate a Username, Password and give your e-mail.  Push “Join Now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8595" t="52525" r="12821" b="16044"/>
          <a:stretch/>
        </p:blipFill>
        <p:spPr>
          <a:xfrm>
            <a:off x="3733920" y="1600200"/>
            <a:ext cx="5181480" cy="1295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7"/>
          <p:cNvCxnSpPr/>
          <p:nvPr/>
        </p:nvCxnSpPr>
        <p:spPr>
          <a:xfrm>
            <a:off x="6781680" y="1676520"/>
            <a:ext cx="457920" cy="381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9" name="Picture 11" descr="Join_now.png"/>
          <p:cNvPicPr/>
          <p:nvPr/>
        </p:nvPicPr>
        <p:blipFill>
          <a:blip r:embed="rId2"/>
          <a:srcRect l="0" t="6095" r="4479" b="0"/>
          <a:stretch/>
        </p:blipFill>
        <p:spPr>
          <a:xfrm>
            <a:off x="3809880" y="3962520"/>
            <a:ext cx="4876920" cy="234792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3"/>
          <a:stretch/>
        </p:blipFill>
        <p:spPr>
          <a:xfrm>
            <a:off x="2498760" y="-12600"/>
            <a:ext cx="48355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193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ow have an account.  Your first screen should be basic directions on the next steps to designing, managing and choosing security o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tle 3" descr=""/>
          <p:cNvPicPr/>
          <p:nvPr/>
        </p:nvPicPr>
        <p:blipFill>
          <a:blip r:embed="rId1"/>
          <a:stretch/>
        </p:blipFill>
        <p:spPr>
          <a:xfrm>
            <a:off x="2432160" y="-12600"/>
            <a:ext cx="495612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unflowers.gif"/>
          <p:cNvPicPr/>
          <p:nvPr/>
        </p:nvPicPr>
        <p:blipFill>
          <a:blip r:embed="rId2"/>
          <a:stretch/>
        </p:blipFill>
        <p:spPr>
          <a:xfrm>
            <a:off x="3049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welcome_to_your_wiki.png"/>
          <p:cNvPicPr/>
          <p:nvPr/>
        </p:nvPicPr>
        <p:blipFill>
          <a:blip r:embed="rId1"/>
          <a:stretch/>
        </p:blipFill>
        <p:spPr>
          <a:xfrm>
            <a:off x="1066680" y="1295280"/>
            <a:ext cx="780912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Title 3" descr=""/>
          <p:cNvPicPr/>
          <p:nvPr/>
        </p:nvPicPr>
        <p:blipFill>
          <a:blip r:embed="rId2"/>
          <a:stretch/>
        </p:blipFill>
        <p:spPr>
          <a:xfrm>
            <a:off x="1060560" y="-12600"/>
            <a:ext cx="7937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Page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24000" y="1752480"/>
            <a:ext cx="723420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Line Callout 3 5"/>
          <p:cNvSpPr/>
          <p:nvPr/>
        </p:nvSpPr>
        <p:spPr>
          <a:xfrm>
            <a:off x="990720" y="5334120"/>
            <a:ext cx="220968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3827" y="-43479"/>
                </a:moveTo>
                <a:lnTo>
                  <a:pt x="-6589" y="-43479"/>
                </a:lnTo>
                <a:lnTo>
                  <a:pt x="-6414" y="11099"/>
                </a:lnTo>
                <a:lnTo>
                  <a:pt x="-41" y="11412"/>
                </a:lnTo>
              </a:path>
            </a:pathLst>
          </a:custGeom>
          <a:solidFill>
            <a:srgbClr val="ffff00">
              <a:alpha val="75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layout and security options by selecting “Manage Wiki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2"/>
          <a:stretch/>
        </p:blipFill>
        <p:spPr>
          <a:xfrm>
            <a:off x="1279440" y="158760"/>
            <a:ext cx="5645160" cy="135900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ular Callout 4"/>
          <p:cNvSpPr/>
          <p:nvPr/>
        </p:nvSpPr>
        <p:spPr>
          <a:xfrm>
            <a:off x="6324480" y="1066680"/>
            <a:ext cx="2133720" cy="990720"/>
          </a:xfrm>
          <a:prstGeom prst="wedgeRoundRectCallout">
            <a:avLst>
              <a:gd name="adj1" fmla="val 27782"/>
              <a:gd name="adj2" fmla="val 76768"/>
              <a:gd name="adj3" fmla="val 16667"/>
            </a:avLst>
          </a:prstGeom>
          <a:solidFill>
            <a:srgbClr val="ffff00">
              <a:alpha val="80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“Edit” to add content to this pa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“Manage Wiki” gives you option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members and remove ol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e when the last edit was made, and who mad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ck, unlock, or delete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and view a list of files in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who can view or edit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vite friends, students, coworkers, or collaborators to join your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sign the wiki such as color, theme, log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147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1279440" y="165240"/>
            <a:ext cx="69692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tent by clicking the “edit” tab on your wiki page.  You can add text, video, and more using the edit tab.  Don’t forget to s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1889280" y="115920"/>
            <a:ext cx="559728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wikispace-of-the-week.png"/>
          <p:cNvPicPr/>
          <p:nvPr/>
        </p:nvPicPr>
        <p:blipFill>
          <a:blip r:embed="rId2"/>
          <a:stretch/>
        </p:blipFill>
        <p:spPr>
          <a:xfrm>
            <a:off x="6629400" y="4876920"/>
            <a:ext cx="1371600" cy="1371600"/>
          </a:xfrm>
          <a:prstGeom prst="rect">
            <a:avLst/>
          </a:prstGeom>
          <a:ln cap="sq" w="390600">
            <a:solidFill>
              <a:srgbClr val="ff99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0:34:14Z</dcterms:created>
  <dc:creator>Kelly</dc:creator>
  <dc:description/>
  <dc:language>en-US</dc:language>
  <cp:lastModifiedBy>Board</cp:lastModifiedBy>
  <dcterms:modified xsi:type="dcterms:W3CDTF">2010-12-26T04:29:04Z</dcterms:modified>
  <cp:revision>24</cp:revision>
  <dc:subject/>
  <dc:title>Creating a Wikispace</dc:title>
</cp:coreProperties>
</file>